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7A33E-A252-4796-B8A8-D782884C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921B5-2D2A-4B86-B337-882592AF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3BA51-762B-4951-ACAB-53035359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CFDC1-F689-4E67-8C15-9EBEF4A7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EEA1-F35E-4BEA-B905-E9B63939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C583-FA25-47C9-8C24-2CE813A6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E876-1073-42C9-B045-9BCB6AF2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4F43-088C-4B6A-A3AD-32F2D78C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F6AA-E78B-4786-8D94-769582F8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08F9-D835-4BDF-BBDC-1EB868CA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A7C4-6AC3-4555-9D79-62333E00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C27CF-83B0-480E-A1C4-4F654BB8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B526-DC65-4046-AE0F-8D42CB08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085D-49F2-4B2B-8645-CC23BCC3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EDB1-FAFA-448F-805C-70EFC7FE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5FB8-6CCB-4355-9E78-E661F05E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0C6F-1D5E-4AC9-AD70-D93E1EDC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9E95D-6D4B-475B-8253-B87B9544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8D069-4C63-4676-BCE5-90A37420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047EE-D3F9-4FA9-AD6D-2AF6B831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312AB-6F94-449E-841D-4B00F9C5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B75EF-4691-490B-B998-36C478D5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BFE6A-2CC6-407D-A0C3-9F112EAA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83AB-C767-47DA-82E0-86843233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F0CD-5E6E-4759-9C7F-ED9D2F28DCF4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64B9-9BB5-46F7-A234-F1A29F7A056D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39640" y="1828800"/>
            <a:ext cx="6651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PSASP</a:t>
            </a: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曲线阅览室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651640" y="5516280"/>
            <a:ext cx="246384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005-4-1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5229360"/>
            <a:ext cx="17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51640" y="5229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电力科学研究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测值线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移动测值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改变数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技术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动态数组，没有曲线条数限制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图上元素均可鼠标操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件隔行读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M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动导出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种曲线 选择后的统一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设计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：原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SASP 6.X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曲线查看工具的跨平台化、完善化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：提供更灵活的操作，如多文件操作，批处理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：提供分布式计算接口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要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窗口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每个窗口多条曲线（无条数限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曲线样式灵活设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元素属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颜色、样式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设置并保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种风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由缩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导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M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位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动输出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批处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测值线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印预览和打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框架窗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6491520" cy="522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16000" y="2997360"/>
            <a:ext cx="2016000" cy="576000"/>
          </a:xfrm>
          <a:prstGeom prst="wedgeRectCallout">
            <a:avLst>
              <a:gd name="adj1" fmla="val -46222"/>
              <a:gd name="adj2" fmla="val 8002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包含曲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5373720"/>
            <a:ext cx="2016000" cy="576360"/>
          </a:xfrm>
          <a:prstGeom prst="wedgeRectCallout">
            <a:avLst>
              <a:gd name="adj1" fmla="val -58740"/>
              <a:gd name="adj2" fmla="val -22631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已选曲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765000"/>
            <a:ext cx="2016360" cy="576360"/>
          </a:xfrm>
          <a:prstGeom prst="wedgeRectCallout">
            <a:avLst>
              <a:gd name="adj1" fmla="val -167481"/>
              <a:gd name="adj2" fmla="val 235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已选文件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16720" y="5084640"/>
            <a:ext cx="1368360" cy="576360"/>
          </a:xfrm>
          <a:prstGeom prst="wedgeRectCallout">
            <a:avLst>
              <a:gd name="adj1" fmla="val -112643"/>
              <a:gd name="adj2" fmla="val 739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曲线窗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3573360"/>
            <a:ext cx="1368360" cy="576360"/>
          </a:xfrm>
          <a:prstGeom prst="wedgeRectCallout">
            <a:avLst>
              <a:gd name="adj1" fmla="val -112643"/>
              <a:gd name="adj2" fmla="val 739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Leg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属性对话框－曲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561672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属性对话框－坐标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5184720" cy="4175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300720" y="1916280"/>
            <a:ext cx="252108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还包括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测值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绘图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件操作演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选择多个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件列表：文件单击选择，双击从列表删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件内容列表：双击操作，区分单个变量，坐标，文件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已选曲线列表：双击删除曲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缩放和曲线属性设置演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缩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放大、缩小、选择缩放、上一步、原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式颜色改变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批处理和导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演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批处理定义对应文件为打开文件列表中文件序列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前活动文件为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动对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前所有窗口导出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0:36:14Z</dcterms:created>
  <dc:creator>kangjd</dc:creator>
  <dc:description/>
  <dc:language>en-US</dc:language>
  <cp:lastModifiedBy>kjd</cp:lastModifiedBy>
  <dcterms:modified xsi:type="dcterms:W3CDTF">2005-04-15T06:25:44Z</dcterms:modified>
  <cp:revision>10</cp:revision>
  <dc:subject/>
  <dc:title>PSASP曲线分析工具</dc:title>
</cp:coreProperties>
</file>